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037-CAD5-4C18-8DDD-68BC9A6F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62A-BD66-4F5E-A38B-E4E6E9B9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A50D-2F6F-4246-8D2F-D83AAE0DA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8960-CC51-4B67-8EA9-7F2A75231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602-3261-4C08-A8B7-B73C52E2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0603-CED6-44EC-97CE-55973EC1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0769-6090-474A-B5C9-D746D3DC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ABCF-6442-4BEB-946C-E875F227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99CF-0B08-4B97-A4EF-5B28957B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BCEC-0E8E-4EDA-B066-C9A0132A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6553-27D8-47C3-8DF1-2B3DD64D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5C4-BDAF-43DD-BF93-5D9EEBD4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386A1-FA29-4BE7-A211-2191D2307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3224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Audacity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rd Podc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iss Belar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2332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Click the red circle to record. You will see the blue lines while you are spea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Click the yellow square to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f you want to listen to the podcast, click the green tri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0"/>
            <a:ext cx="2895840" cy="990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220968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a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 as MP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3760" y="2819520"/>
            <a:ext cx="46479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fold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correct 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3520" y="4343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le name MUST 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uthor’sLastName_Title_Fo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885840" y="3581280"/>
            <a:ext cx="4876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5105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Cancel on this screen!  After you’re finished, I’ll add them to the databa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12:56:43Z</dcterms:created>
  <dc:creator>BBelardi</dc:creator>
  <dc:description/>
  <dc:language>en-US</dc:language>
  <cp:lastModifiedBy>BBelardi</cp:lastModifiedBy>
  <dcterms:modified xsi:type="dcterms:W3CDTF">2007-10-03T15:00:32Z</dcterms:modified>
  <cp:revision>2</cp:revision>
  <dc:subject/>
  <dc:title>Using Audacity to  Record Podcasts</dc:title>
</cp:coreProperties>
</file>